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0198-37B9-4611-8201-11562CF9D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4A93-93A7-4E17-A24D-34E6C3CE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9C3D-6350-47C1-91F7-732E18B73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CAFC-6A1D-4F81-9C44-B5F7652EE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EE0F-F6EA-4A44-A0DB-892213800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595F-6517-4B54-9DBA-37AA67BF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4D82-A125-452F-96D7-2AE68744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623A-8EEB-4A32-98E1-DB0BC945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A20B5-8182-43B5-8A9F-D6D113D4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14969-1A58-4F1B-95E6-CB438896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383D-D53C-4A81-8E91-CCB5ACAF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4D23-5936-4CF5-A3E7-58A1FD75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72E0-5D0D-4813-8FD9-AC4267B4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2DCD-FA25-4049-85EB-7441E498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8504-C983-40B8-93A3-6A3CD846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4FE69-5B72-4E41-A5E7-04265139F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6577E-338B-4D00-B0B9-771E12BA8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FF45-601F-49E4-AEB9-A6AE4D92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86B7-4F7A-4735-9A84-8702AD20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2202-1C48-452A-AAFF-8E7D2416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C097-4740-444C-A968-D17877B4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74AF-6681-446C-B643-6C2E2CE0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2C41-034A-4790-A80A-5F7B986B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3728-298F-47E8-9717-EE661D18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1027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1028"/>
            <p:cNvSpPr/>
            <p:nvPr/>
          </p:nvSpPr>
          <p:spPr>
            <a:xfrm>
              <a:off x="-9360" y="4489560"/>
              <a:ext cx="5754600" cy="2368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29"/>
            <p:cNvSpPr/>
            <p:nvPr/>
          </p:nvSpPr>
          <p:spPr>
            <a:xfrm>
              <a:off x="0" y="3817800"/>
              <a:ext cx="8164440" cy="30196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030"/>
            <p:cNvSpPr/>
            <p:nvPr/>
          </p:nvSpPr>
          <p:spPr>
            <a:xfrm>
              <a:off x="0" y="3146400"/>
              <a:ext cx="9144000" cy="36910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031"/>
            <p:cNvSpPr/>
            <p:nvPr/>
          </p:nvSpPr>
          <p:spPr>
            <a:xfrm>
              <a:off x="0" y="2460600"/>
              <a:ext cx="9144000" cy="24973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032"/>
            <p:cNvSpPr/>
            <p:nvPr/>
          </p:nvSpPr>
          <p:spPr>
            <a:xfrm>
              <a:off x="0" y="1793880"/>
              <a:ext cx="9144000" cy="15397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033"/>
            <p:cNvSpPr/>
            <p:nvPr/>
          </p:nvSpPr>
          <p:spPr>
            <a:xfrm>
              <a:off x="0" y="-20520"/>
              <a:ext cx="9144000" cy="16826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34"/>
            <p:cNvSpPr/>
            <p:nvPr/>
          </p:nvSpPr>
          <p:spPr>
            <a:xfrm>
              <a:off x="0" y="-20520"/>
              <a:ext cx="8388360" cy="1068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35"/>
            <p:cNvSpPr/>
            <p:nvPr/>
          </p:nvSpPr>
          <p:spPr>
            <a:xfrm>
              <a:off x="0" y="-20520"/>
              <a:ext cx="4578480" cy="4539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BC74-25FA-4806-BF84-CB4F6640F4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>
              <a:off x="-9360" y="4489560"/>
              <a:ext cx="5754600" cy="2368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0" y="3817800"/>
              <a:ext cx="8164440" cy="30196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6"/>
            <p:cNvSpPr/>
            <p:nvPr/>
          </p:nvSpPr>
          <p:spPr>
            <a:xfrm>
              <a:off x="0" y="3146400"/>
              <a:ext cx="9144000" cy="36910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7"/>
            <p:cNvSpPr/>
            <p:nvPr/>
          </p:nvSpPr>
          <p:spPr>
            <a:xfrm>
              <a:off x="0" y="2460600"/>
              <a:ext cx="9144000" cy="24973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0" y="1793880"/>
              <a:ext cx="9144000" cy="15397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-20520"/>
              <a:ext cx="9144000" cy="16826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>
              <a:off x="0" y="-20520"/>
              <a:ext cx="8388360" cy="1068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1"/>
            <p:cNvSpPr/>
            <p:nvPr/>
          </p:nvSpPr>
          <p:spPr>
            <a:xfrm>
              <a:off x="0" y="-20520"/>
              <a:ext cx="4578480" cy="4539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60D1-6017-4175-8F47-47EE17BC71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ocument Based Ques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 DBQ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4" descr="C:\Documents and Settings\amckellin\Application Data\Microsoft\Media Catalog\Downloaded Clips\cla5\j0412754.wmf"/>
          <p:cNvPicPr/>
          <p:nvPr/>
        </p:nvPicPr>
        <p:blipFill>
          <a:blip r:embed="rId1"/>
          <a:stretch/>
        </p:blipFill>
        <p:spPr>
          <a:xfrm>
            <a:off x="838080" y="3429000"/>
            <a:ext cx="1708200" cy="2176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C:\Documents and Settings\amckellin\Application Data\Microsoft\Media Catalog\Downloaded Clips\clad\j0433797.png"/>
          <p:cNvPicPr/>
          <p:nvPr/>
        </p:nvPicPr>
        <p:blipFill>
          <a:blip r:embed="rId2"/>
          <a:stretch/>
        </p:blipFill>
        <p:spPr>
          <a:xfrm>
            <a:off x="6477120" y="3429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at is a Document Based Question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BQ, or ‘document based questions’, are questions that focuses around one or more documents. The documents can be a graph, cartoon, short excerpt, picture, etc, basically anything that you can get information fr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4" descr="C:\Documents and Settings\amckellin\Application Data\Microsoft\Media Catalog\Downloaded Clips\clad\j0434859.png"/>
          <p:cNvPicPr/>
          <p:nvPr/>
        </p:nvPicPr>
        <p:blipFill>
          <a:blip r:embed="rId1"/>
          <a:stretch/>
        </p:blipFill>
        <p:spPr>
          <a:xfrm>
            <a:off x="3581280" y="45720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urpos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urpose of a document based question is to assess your ability to formulate (or figure out) and support an answer based on documentary evide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4" descr="C:\Documents and Settings\amckellin\Application Data\Microsoft\Media Catalog\Downloaded Clips\cla9\j0424230.wmf"/>
          <p:cNvPicPr/>
          <p:nvPr/>
        </p:nvPicPr>
        <p:blipFill>
          <a:blip r:embed="rId1"/>
          <a:stretch/>
        </p:blipFill>
        <p:spPr>
          <a:xfrm>
            <a:off x="3886200" y="4572000"/>
            <a:ext cx="145404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reaking Down DBQ’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are some tasks you could be asked to do in a DBQ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alyz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Break a topic down into separate parts and discuss each 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iticiz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Make judgments. Evaluate comparative wort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fin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Explain the exact meaning, specific to the course or subjec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scrib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Give a detailed account, listing characteristics, qualities and par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cus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rgue the pros and cons of an iss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valua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Give an opinion or cite the opinion of an exper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llustra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Give concrete examp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iz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Give a brief, condensed account, including conclusio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ing the documents, analyze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atterns of trad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 the period 1000-1450. In addition, identify possibl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ultural consequences of trad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 this time peri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question asking fo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Are there recognizable patter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What are the consequences of contac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3:04:58Z</dcterms:created>
  <dc:creator>teacher</dc:creator>
  <dc:description/>
  <dc:language>en-US</dc:language>
  <cp:lastModifiedBy>IT User</cp:lastModifiedBy>
  <dcterms:modified xsi:type="dcterms:W3CDTF">2011-05-23T16:28:05Z</dcterms:modified>
  <cp:revision>13</cp:revision>
  <dc:subject/>
  <dc:title>Document Based Questions</dc:title>
</cp:coreProperties>
</file>